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ct" ContentType="image/x-pict"/>
  <Override PartName="/ppt/media/image10.pct" ContentType="image/x-pict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775-50E7-440D-8D82-56F5AD3B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348-333E-4692-A355-568DBDF6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368-D371-4333-A743-822211BF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8AE5-0B73-4BF4-BD7E-5A641860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F216-632D-4859-AFBD-B141A02D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62B2-BDF2-4DE4-B41A-9445D99C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D2A2-6915-46FA-9F02-EA6A86EF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8389-3210-4096-9B4C-E7C79E12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8254-0B69-4556-8DB0-D4756791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88C0-F40E-4AAF-AEB0-1880DBC7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20F5-67AE-4ABB-817D-31AC9B79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0CD-3C34-414F-A794-F9F8F14C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1D29-8E5C-4158-971B-5BD0C236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B3B6-5BCB-4C84-846C-F5C4F625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C9E3-4FA3-4F6A-8761-8EFD5D9E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3DDB-B275-40F1-AB74-86CF8244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035A-505C-448E-9581-2347BBE3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7B1-C19F-4B92-A4A4-15807E09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7FE-12DB-4131-95BE-592A8CB6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54D-3D59-44DC-A895-412804D1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A83F-2087-4929-B4F0-721F0AAE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BE8-422F-4A9E-A7DC-FF7B0E50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9EF-A92F-49E8-A4DF-EAF70DA4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EA9-E615-4145-AC7C-F0E275C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BEEA-DC27-4AFA-8C17-5482A3EF6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C776-3B58-4549-90A8-381EE577E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hyperlink" Target="http://students.ed.qut.edu.au/n2364379/mdb377/DichotomousKeyOutline.html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students.ed.qut.edu.au/n2364379/mdb377/DKwombat1.html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students.ed.qut.edu.au/n2364379/mdb377/DKredbelly1.html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hyperlink" Target="http://www.arborday.org/trees/whattree/WhatTree.cfm?ItemID=E6A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hyperlink" Target="http://www.amnh.org/learn/biodiversity_counts/ident_help/Text_Keys/text_keys_index.htm" TargetMode="External"/><Relationship Id="rId7" Type="http://schemas.openxmlformats.org/officeDocument/2006/relationships/image" Target="../media/image2.jpeg"/><Relationship Id="rId8" Type="http://schemas.openxmlformats.org/officeDocument/2006/relationships/image" Target="../media/image8.jpeg"/><Relationship Id="rId9" Type="http://schemas.openxmlformats.org/officeDocument/2006/relationships/hyperlink" Target="http://www.mushroomexpert.com/major_groups.html" TargetMode="Externa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aminalcul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recent the LCA for two organisms, the more closely related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closely related they are, the more taxa they s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more recent the LC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aminalcul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recent the LCA for two organisms, the more closely related they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closely related they are, the more taxa they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more recent the LCA… the more taxa they sh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8195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41911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5257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276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2438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4876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5715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360" y="317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5480" y="2333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05840" y="4695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20240" y="1876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95840" y="317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9520" y="3705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42840" y="51530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01320" y="202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00240" y="2943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24640" y="37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0" y="46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73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95520" y="26384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00440" y="5686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72200" y="3629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aminalcul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eate a classification scheme for your Caminal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oint on the timeline is a species. Give them good hardy Latin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species are probably in the same genus?  Give those genera a name; also complete the full scientific name for each spe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genera are probably in the same family?  Label and name the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families are probably in the same ord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orders are probably in the same cla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l these Caminalcules are in the imaginary phylum Caminacula, and real kingdom Animalia and domain Eukary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:  What are the eight major taxonomic ranks, from the one with the mo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on ancestors to the one with the mo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on ances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inder: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pec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pecies is the most basic unit of the taxonomic syst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How scientis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es gets trick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g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is famili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wolve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is lup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 interbreed to create viable offspring.  Why are they different spec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atriton Salamander in Mexico looks identical in every way to another salamander, Oedepina, that lives several hundred miles away.  Not even a herpetologist can tell them apart by looking at them.  They are named as different spe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alifornia slender salamander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trachoseps attenu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as reclassified in the mid 1990s into more than 20 different species, after being called just one species for hundreds of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ba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up the hand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partner, please take until 7:35 to generate a summary of the main ideas from last week, and one reasonable multiple choice test question about one of those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2590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satina escholtz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salamander in California and Oregon, has populations that don’t look alik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’t breed with each other.  But others can and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9880" y="507960"/>
            <a:ext cx="50929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 Concept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ctually many different ways that species can be defined.  Different scientists have a preference for different methods, but usually, something has to be justified by several of them in order to be classified and accepted by the scientific comm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 Concept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ogether with another table and read through the different species concepts.  Be sure that you have a handle on what each one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, try to imagine scenarios in which some living thing or things meets one or more definitions, but not others.  Maybe you would consider them to be a single species, maybe not.  Write their stories to be presented to another group to consi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ll consider the scenarios presented by others, and must discuss and come to an evidence-based consensus as to whether or not you’d call them the same or different spe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is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we’ve tossed the idea of a species around a bit, how many of them do you think we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bout this 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that we’ve tossed the idea of a species around a bit, how many of them do you think we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ere scientists, operating under realistic modern constraints (time, money, technology), how would you figure out the answer to that question?  With your group, come up with some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might it be important to have that measure of our biodiversity, i.e. to know how many species there are?  (Besides curiosity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Speci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article (homewor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tly-used tool in classifying an organism tha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w to science is the use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chotomous 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chotomous keys are written devices that help you determine the classification of a living through through observation, and a series of branching path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body ever read “Choose Your Own Adventure” 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4"/>
              </a:rPr>
              <a:t>http://students.ed.qut.edu.au/n2364379/mdb377/DichotomousKeyOutlin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6"/>
              </a:rPr>
              <a:t>http://students.ed.qut.edu.au/n2364379/mdb377/DKwombat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8"/>
              </a:rPr>
              <a:t>http://students.ed.qut.edu.au/n2364379/mdb377/DKredbelly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Projec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onomy Poster Project d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xt Tues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chotomous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out: Practice with Dichotomous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chotomous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your table partner, bring your notebooks and go out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isms that you cannot identify off the tops of your h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down a thorough description of them.  If there’s a dead bit that you can take without disturbing the organism (like a dead leaf), you m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assignment will be to use the internet to find a dichotomous key for our area, OR use a field guide built around a dichotomous key, identify your three organisms (common name and most specific tax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Useful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3"/>
              </a:rPr>
              <a:t>http://www.arborday.org/trees/whattree/WhatTree.cfm?ItemID=E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opo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6"/>
              </a:rPr>
              <a:t>http://www.amnh.org/learn/biodiversity_counts/ident_help/Text_Keys/text_keys_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hroo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79ab6"/>
                </a:solidFill>
                <a:uFillTx/>
                <a:latin typeface="Arial"/>
                <a:hlinkClick r:id="rId9"/>
              </a:rPr>
              <a:t>http://www.mushroomexpert.com/major_group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h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chotomous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chotomous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inoderm Example: Practice making a dichotomous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Dichotomous Key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t into 3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gets some organisms, and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dichotomous key for those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then leave your key with your organisms, names concealed.  Another group will step in; they should be able to correctly identify every organism using your k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Taxonomic Rank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ir, come up with at least one mnemonic device for the ranks (DKPCOFGS).  We will vote on the best one, and that pair gets a stick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into lab group, get materials.  If you didn’t read the lab packet, take a moment to skim it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Lines on paper and cut out Caminal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rrange the living Caminalcules on Line 0 (present day), with the most related ones next to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Start placing the fossil Caminalcules on their lines, like you did with the modern day ones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me people like starting with 1 million years ago and working back, some like starting 19 million years ago and working forwar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Use similarities to figure out out who descended from who!  Draw lines connecting ancestor with descendent.  (Hint: no one Caminalcule has more than 2 descendents on the next line u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4568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at your “family tree” will look something like (though yours will have year lines, and pictures instead of nam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29000" y="2422440"/>
            <a:ext cx="50068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aminalcul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your lab group, come up with a succinct explanation:  What is the relationship betwe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late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 common ances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xonomic ra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aminalcule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st common ances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ny two kinds of living thing = the most recent living thing from which they are both desc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nd your siblings have your parents as your LCA.  You and your cousins have your grandparents as your LCA.  You and your second cousins have your great-grandparents. 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25:02Z</dcterms:created>
  <dc:creator>Rebecca Stang</dc:creator>
  <dc:description/>
  <dc:language>en-US</dc:language>
  <cp:lastModifiedBy>Rebecca Stang</cp:lastModifiedBy>
  <dcterms:modified xsi:type="dcterms:W3CDTF">2009-02-18T00:04:40Z</dcterms:modified>
  <cp:revision>13</cp:revision>
  <dc:subject/>
  <dc:title>PowerPoint Presentation</dc:title>
</cp:coreProperties>
</file>